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1575-5581-467B-8895-2B7A93AFB53B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0AE-ABBC-4A4F-8833-22935C336D5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115-8D20-4498-B22C-0A53C83FCE3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8445-AAD5-4EDB-A3B3-C409EE23D19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E650-89BE-46CF-B234-004DBA7866F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3FF-9DB4-498B-ADE4-23A435274A4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C51-E905-491B-A3A9-EF824E6F356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0B5-D855-4E8F-AFFC-07150C58EC9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9E2-4959-4622-AA38-7D084E17F02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9634-3A61-426D-A10C-32B43244CC6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BE7E-D978-47BB-B3BF-74E3FB3FA80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EC8-AEB8-4010-8830-10DBFE6AA26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A41D-5B91-45A0-8585-F7EF45E6DEC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572D-2276-4A40-9743-BA68F09087F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C122-AC87-43C4-8A0D-435FB422E6C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E0F-54B3-4126-B901-FDED0DC2368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920-6561-47A3-B2FB-DECB9B6B726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E8F-44B1-4785-9198-E819AAA0CB9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2852-312E-4484-A006-A7BC9ADFAF8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016-4816-4B95-B5C8-FA22A15A39D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F9F3-4BC6-42E3-BE6E-95FFD0C7440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48C-3621-4D58-97FB-0CF6CB2044F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F4F-4C5D-4CE2-96FF-EE76A0ABAD59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7B46-3244-40AA-A745-7CF4FE7DE4B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A93C-BC5C-4EBB-99A8-65352EFADDD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56A-6F45-4158-8893-EEE02E9885B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357-DD08-43C6-9FAD-A393CD974E1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5C43-F80D-423D-A307-F2C382E6E63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E7DA-671C-4CAF-AA61-11DC18CCC37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780-D9A1-44DC-B1ED-0A3A4319F6D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5EB-1098-418B-9150-BBE09FA086F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9F4-71EE-454D-8574-F7E18551992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CEAF-77BA-4CCC-A577-F460D768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6BB5-E328-4568-9B11-39E63D61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AA20-0D99-41A5-8782-9F14A51F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6D36-CA5A-4900-B8CC-E2261D79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C467-BEB4-413A-868B-30990663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497E-E193-4DCB-9D00-E7563B4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CDE-A0D7-4CC0-941D-F43E7CCC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A1A-C1AA-40AD-AA28-568FBBE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379-7711-4452-A147-B345937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89A-1EAC-4890-A01D-AC8FBA4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8C03-214D-48FA-BEFD-E3436B98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32C4-1146-4D7C-973E-B2F0F813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32E6-AADE-49E5-9B85-326C162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BB46-D2D0-4F32-93B7-E9F1E1A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84F-91FA-4058-8E50-B00241F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D2F-2C5B-47E4-9B28-843A25AB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0C7A-96F3-4267-B100-4433E4BF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5339-6EFB-4738-BB31-3E74785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8547-0BBE-42B3-AAA6-0E0A1DFA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80FA-77D8-453A-B9E6-A817E4E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B2B9-E252-49FF-B2E3-66397774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54A1-78F8-4514-B404-43431CD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1B69-4C22-41E4-B394-0781203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F10C-F199-4E3F-AB10-EDED7F4F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C34F-F12C-48EE-99E9-B54A7F8926C0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37C-8C78-4844-8C45-92B2FDC8D6F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odgovorni  (ovlašćeni) 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ffff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o usklađenosti, odnosno neusklađenosti glavnog projekta u smislu člana 81 st. 2 i 3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2-10-03T19:34:26Z</dcterms:modified>
  <cp:revision>345</cp:revision>
  <dc:subject/>
  <dc:title>ZAKON O IZGRADNJI OBJEKATA</dc:title>
</cp:coreProperties>
</file>